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4343400" y="5715000"/>
            <a:ext cx="520560" cy="5842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429000" y="6338880"/>
            <a:ext cx="243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800" spc="-1" strike="noStrike">
                <a:solidFill>
                  <a:srgbClr val="c9d8e1"/>
                </a:solidFill>
                <a:latin typeface="Times New Roman"/>
              </a:rPr>
              <a:t>Пројекат   Развој здравства Србиј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7826400" y="5715000"/>
          <a:ext cx="47952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26400" y="5715000"/>
                    <a:ext cx="479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7010280" y="6248520"/>
            <a:ext cx="2133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800" spc="-1" strike="noStrike">
                <a:solidFill>
                  <a:srgbClr val="c9d8e1"/>
                </a:solidFill>
                <a:latin typeface="Times New Roman"/>
              </a:rPr>
              <a:t>Институт за јавно здравље Србиј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800" spc="-1" strike="noStrike">
                <a:solidFill>
                  <a:srgbClr val="c9d8e1"/>
                </a:solidFill>
                <a:latin typeface="Times New Roman"/>
              </a:rPr>
              <a:t>‘’</a:t>
            </a:r>
            <a:r>
              <a:rPr b="0" lang="sr-CS" sz="800" spc="-1" strike="noStrike">
                <a:solidFill>
                  <a:srgbClr val="c9d8e1"/>
                </a:solidFill>
                <a:latin typeface="Times New Roman"/>
              </a:rPr>
              <a:t>Др Милан Јовановић – Батут’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43400" y="5715000"/>
            <a:ext cx="520560" cy="584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29000" y="6338880"/>
            <a:ext cx="243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800" spc="-1" strike="noStrike">
                <a:solidFill>
                  <a:srgbClr val="c9d8e1"/>
                </a:solidFill>
                <a:latin typeface="Times New Roman"/>
              </a:rPr>
              <a:t>Пројекат   Развој здравства Србиј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826400" y="5715000"/>
          <a:ext cx="47952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0" y="5715000"/>
                    <a:ext cx="479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010280" y="6248520"/>
            <a:ext cx="2133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800" spc="-1" strike="noStrike">
                <a:solidFill>
                  <a:srgbClr val="c9d8e1"/>
                </a:solidFill>
                <a:latin typeface="Times New Roman"/>
              </a:rPr>
              <a:t>Институт за јавно здравље Србиј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800" spc="-1" strike="noStrike">
                <a:solidFill>
                  <a:srgbClr val="c9d8e1"/>
                </a:solidFill>
                <a:latin typeface="Times New Roman"/>
              </a:rPr>
              <a:t>‘’</a:t>
            </a:r>
            <a:r>
              <a:rPr b="0" lang="sr-CS" sz="800" spc="-1" strike="noStrike">
                <a:solidFill>
                  <a:srgbClr val="c9d8e1"/>
                </a:solidFill>
                <a:latin typeface="Times New Roman"/>
              </a:rPr>
              <a:t>Др Милан Јовановић – Батут’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752480"/>
            <a:ext cx="84027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ahoma"/>
              </a:rPr>
              <a:t>III </a:t>
            </a:r>
            <a:r>
              <a:rPr b="1" lang="sr-CS" sz="3600" spc="-1" strike="noStrike">
                <a:solidFill>
                  <a:srgbClr val="66ffff"/>
                </a:solidFill>
                <a:latin typeface="Tahoma"/>
              </a:rPr>
              <a:t>НАЦИОНАЛНА КОНФЕРЕН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ffff"/>
                </a:solidFill>
                <a:latin typeface="Tahoma"/>
              </a:rPr>
              <a:t>О УНАПРЕЂЕЊУ КВАЛИТ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ffff"/>
                </a:solidFill>
                <a:latin typeface="Tahoma"/>
              </a:rPr>
              <a:t>ЗДРАВСТВЕНЕ ЗАШТ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ffff"/>
                </a:solidFill>
                <a:latin typeface="Tahoma"/>
              </a:rPr>
              <a:t>Београд, 21 децембар 2006. год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7:27:26Z</dcterms:created>
  <dc:creator>niksa</dc:creator>
  <dc:description/>
  <dc:language>en-US</dc:language>
  <cp:lastModifiedBy>Snezana</cp:lastModifiedBy>
  <dcterms:modified xsi:type="dcterms:W3CDTF">2006-12-13T12:05:00Z</dcterms:modified>
  <cp:revision>7</cp:revision>
  <dc:subject/>
  <dc:title>Slide 1</dc:title>
</cp:coreProperties>
</file>